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wmf" ContentType="image/x-wmf"/>
  <Override PartName="/ppt/media/image25.wmf" ContentType="image/x-wmf"/>
  <Override PartName="/ppt/media/image15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2.jpeg" ContentType="image/jpeg"/>
  <Override PartName="/ppt/media/image1.jpeg" ContentType="image/jpeg"/>
  <Override PartName="/ppt/media/image14.png" ContentType="image/png"/>
  <Override PartName="/ppt/media/image9.wmf" ContentType="image/x-wmf"/>
  <Override PartName="/ppt/media/image41.png" ContentType="image/png"/>
  <Override PartName="/ppt/media/image38.png" ContentType="image/png"/>
  <Override PartName="/ppt/media/image39.jpeg" ContentType="image/jpeg"/>
  <Override PartName="/ppt/media/image30.png" ContentType="image/png"/>
  <Override PartName="/ppt/media/image42.png" ContentType="image/png"/>
  <Override PartName="/ppt/media/image43.png" ContentType="image/png"/>
  <Override PartName="/ppt/media/image13.png" ContentType="image/png"/>
  <Override PartName="/ppt/media/image37.png" ContentType="image/png"/>
  <Override PartName="/ppt/media/image12.jpeg" ContentType="image/jpeg"/>
  <Override PartName="/ppt/media/image34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11.png" ContentType="image/png"/>
  <Override PartName="/ppt/media/image7.wmf" ContentType="image/x-wmf"/>
  <Override PartName="/ppt/media/image31.jpeg" ContentType="image/jpeg"/>
  <Override PartName="/ppt/media/image10.wmf" ContentType="image/x-wmf"/>
  <Override PartName="/ppt/media/image40.png" ContentType="image/png"/>
  <Override PartName="/ppt/media/image8.wmf" ContentType="image/x-wmf"/>
  <Override PartName="/ppt/media/image4.jpeg" ContentType="image/jpeg"/>
  <Override PartName="/ppt/media/image2.png" ContentType="image/png"/>
  <Override PartName="/ppt/media/image32.png" ContentType="image/png"/>
  <Override PartName="/ppt/media/image6.png" ContentType="image/png"/>
  <Override PartName="/ppt/media/image29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3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E96E-2A47-4F26-AADF-B30931608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2193-A28A-4F85-8D29-101D965C9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ad themes such as change, cultures, discovery, environments, interaction, inventions, power, systems, time and work provide a greater opportunity for teachers of various disciplines to find common topics, concepts and ski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EF14-4C0B-4C0F-818F-499B1F713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E7D3-32AA-4D02-86DB-C8CEAB6A7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55C1-5F4F-4715-8D28-9705FC3AD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FA07-FBC6-4002-95D3-D1925AFF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38AB-556D-4EAB-8592-B056ABDC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571-E37A-48D2-AD52-7BB406CC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4377-D241-47B8-BE42-75D2BA5E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165A-B181-4135-8647-A1E337A4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A195-B52B-4D1F-929D-F5570E55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0BEF-AA79-4F8E-AC7E-56828BC8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86F1-955B-4EA1-9AC8-50CD3341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7B2D-39BD-4E7F-9C41-94E88667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CC53-A377-4801-B779-A6DBD434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ECE5-04CF-47FD-868C-9C22F3E5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52D7-6049-4DE2-8BC6-65902748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1424-D5B8-4A12-867C-DDC2D280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7353-A81B-47E8-BB59-4FF876B6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0E48-3847-4BE3-AB96-9FC232EC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1749-A3CC-4D18-B8C2-910CD075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BEBD-A1C4-4F74-B5DD-5CD726C7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814DB-11D9-4E7A-AD4B-6BB4F142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E18C7-4E40-4F26-882A-994830A3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099EB-59F0-44CB-8748-CC61C1AE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78EC8-96CE-47BD-8259-6F04E6EF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086C9-E609-4936-9225-7A7C926B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95EE-C23A-4E27-A684-5A9EAE58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29CAA-861B-4C87-BC42-F2B5CB8D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0C852-A704-441A-8702-D0EE2678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77D2D-2E35-44EA-8474-3C931FBC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57BCD-90C0-468A-B0BA-059C120B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5A4E3-BD67-4B18-BBFC-74830A7E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1B8C3-FE93-47EC-A9A2-2B07F07A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FEBAF-F5E2-40C4-8E39-8AFD4204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66BD8-1948-45B1-A17E-A7DCBBA8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60040-7A47-4EE5-9DBA-719640B3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0B83F-9F31-4931-B5E0-01A8E8B2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9638-ED48-4F00-AF8F-C0D577EB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22A1B-C0F3-483A-BCF0-1E2C2E45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1533D-3249-4F1F-93A3-D36D4A4B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A4C95-BF64-46F0-91CB-AB488065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A19AC-8166-46C2-9279-2B4F4434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7840C-1C47-4DCF-B4E3-B664558D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9702B-1B1E-4E2B-9C82-66919D97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17756-B6C2-421E-B7E4-F69007D3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B2064-63DD-451F-8BB1-113107E2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07CF2-DED1-4C8F-A090-93389260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B169-B148-421F-87B1-CB44CD7D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F051-2A27-43F1-8024-ECB40C1C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7D21-779E-4E72-8AAB-E3382E50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6582-4C25-4548-8B60-A19C4DA7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C38-9049-4335-B213-8B26FD61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C1F8-D220-4549-A072-11542CCA0714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C015-A8F5-405B-BB8E-7959985C098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DDB5-E843-490C-9DA8-2B9141EDBC45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1622-C874-415D-9DE8-006F0C0C0C1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3B23-0417-48B0-94D3-D63B1F5B9042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D48B-CDFB-4658-BF3E-3224A34172E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A0E2-88C8-468D-A9DE-6229EEF3851C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16DD-AB0F-4E3B-B110-5A2F98E1224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689040" y="122400"/>
            <a:ext cx="8326440" cy="21762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520" y="4268880"/>
            <a:ext cx="3657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avid Stubb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avid@stubbsonline.ne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itle 1"/>
          <p:cNvSpPr/>
          <p:nvPr/>
        </p:nvSpPr>
        <p:spPr>
          <a:xfrm>
            <a:off x="905040" y="1905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466A-EA65-412D-8242-B9304FB483C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533520" y="5486400"/>
            <a:ext cx="806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at should be the route for the Al-Corniche line of the Doha metro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Subtitle 2"/>
          <p:cNvSpPr/>
          <p:nvPr/>
        </p:nvSpPr>
        <p:spPr>
          <a:xfrm>
            <a:off x="4419720" y="4267080"/>
            <a:ext cx="3657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al Rustom Ham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hamam@qf.org.q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6840" y="1981080"/>
            <a:ext cx="4040280" cy="4648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Use a broad theme, e.g. change, culture, environment, wor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reater opportunity for interactio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Use webbing to create idea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nerate as many ideas as possible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ccept all ideas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ek clarification, if necessary, but do not edit at this stage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ncourage people to brainstorm on their own before contributing to a common pool of ideas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ember that brainstorming is an open-ended exercise. At any time, new ideas or directions may be introduced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o not close down the process too soon. Provide ample thinking time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44720" y="1981080"/>
            <a:ext cx="404172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 algn="r" rtl="1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ستخدام موضوع عام واسع ، على سبيل المثال التغيير ، والثقافة ، والبيئة ، والعمل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خلق فرصة أكبر للتفاعل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ستخدام الويب لخلق الأفكار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عطاء العديد من الأفكار قدر الامكان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قبول كل الأفكار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حصول على توضيحات ، إذا لزم الأمر ، ولكن لا تحرير في هذه المرحلة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شجيع الناس على عصرالأفكار من تلقاء انفسهم قبل المساهمة في مشاركة الاخرين بها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ذكر أن العصف الذهني هو ممارسة لا نهاية لها. في أي وقت ، قد يتم عرض أفكار جديدة أو اتجاهات جديدة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لا تنهي العملية بسرعة. وفر الوقت  الكافي للتفكير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C3FA-913E-4F99-803B-65E8E30BE5B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727200" y="449280"/>
            <a:ext cx="8413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851040" y="612720"/>
            <a:ext cx="9586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Text Box 24"/>
          <p:cNvSpPr/>
          <p:nvPr/>
        </p:nvSpPr>
        <p:spPr>
          <a:xfrm>
            <a:off x="655560" y="593640"/>
            <a:ext cx="123516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5" descr="Webbed"/>
          <p:cNvPicPr/>
          <p:nvPr/>
        </p:nvPicPr>
        <p:blipFill>
          <a:blip r:embed="rId1"/>
          <a:stretch/>
        </p:blipFill>
        <p:spPr>
          <a:xfrm>
            <a:off x="7458120" y="611280"/>
            <a:ext cx="1193760" cy="11937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520" y="219240"/>
            <a:ext cx="6629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ebbed </a:t>
            </a:r>
            <a:r>
              <a:rPr b="0" lang="en-US" sz="2500" spc="-1" strike="noStrike">
                <a:solidFill>
                  <a:srgbClr val="04617b"/>
                </a:solidFill>
                <a:latin typeface="Calibri"/>
              </a:rPr>
              <a:t>(across subjects)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Title 6"/>
          <p:cNvSpPr/>
          <p:nvPr/>
        </p:nvSpPr>
        <p:spPr>
          <a:xfrm>
            <a:off x="380880" y="933480"/>
            <a:ext cx="66294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4617b"/>
                </a:solidFill>
                <a:latin typeface="Calibri"/>
                <a:cs typeface="Traditional Arabic"/>
              </a:rPr>
              <a:t>متشابك</a:t>
            </a:r>
            <a:r>
              <a:rPr b="0" lang="ar-QA" sz="45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(</a:t>
            </a:r>
            <a:r>
              <a:rPr b="0" lang="ar-QA" sz="24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عبر الموضوعات</a:t>
            </a:r>
            <a:r>
              <a:rPr b="0" lang="ar-QA" sz="4500" spc="-1" strike="noStrike">
                <a:solidFill>
                  <a:srgbClr val="04617b"/>
                </a:solidFill>
                <a:latin typeface="Calibri"/>
                <a:ea typeface="Traditional Arabic"/>
              </a:rPr>
              <a:t>)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ebbing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97920" indent="-97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bubbl.us to help with the brainstorming proc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7920" indent="-97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7920" indent="-979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Q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للمساعدة في العصف الذهني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bble.us </a:t>
            </a:r>
            <a:r>
              <a:rPr b="0" lang="ar-Q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استخدم</a:t>
            </a:r>
            <a:r>
              <a:rPr b="0" lang="ar-Q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7920" indent="-97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F527-6A59-405D-AD82-DC2BF911D91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Title 1"/>
          <p:cNvSpPr/>
          <p:nvPr/>
        </p:nvSpPr>
        <p:spPr>
          <a:xfrm>
            <a:off x="457200" y="1123920"/>
            <a:ext cx="82296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تشابك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le 3" descr=""/>
          <p:cNvPicPr/>
          <p:nvPr/>
        </p:nvPicPr>
        <p:blipFill>
          <a:blip r:embed="rId1"/>
          <a:stretch/>
        </p:blipFill>
        <p:spPr>
          <a:xfrm>
            <a:off x="115920" y="11592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2"/>
          <a:srcRect l="8679" t="37120" r="70144" b="35164"/>
          <a:stretch/>
        </p:blipFill>
        <p:spPr>
          <a:xfrm>
            <a:off x="2036880" y="2057400"/>
            <a:ext cx="5692680" cy="4191120"/>
          </a:xfrm>
          <a:prstGeom prst="rect">
            <a:avLst/>
          </a:prstGeom>
          <a:ln w="0">
            <a:noFill/>
          </a:ln>
        </p:spPr>
      </p:pic>
      <p:sp>
        <p:nvSpPr>
          <p:cNvPr id="293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52EA-CA85-48F7-93B0-17CFCFE4548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4" name="Title 3" descr=""/>
          <p:cNvPicPr/>
          <p:nvPr/>
        </p:nvPicPr>
        <p:blipFill>
          <a:blip r:embed="rId3"/>
          <a:stretch/>
        </p:blipFill>
        <p:spPr>
          <a:xfrm>
            <a:off x="457200" y="871560"/>
            <a:ext cx="8308800" cy="1090440"/>
          </a:xfrm>
          <a:prstGeom prst="rect">
            <a:avLst/>
          </a:prstGeom>
          <a:ln w="0">
            <a:noFill/>
          </a:ln>
        </p:spPr>
      </p:pic>
      <p:sp>
        <p:nvSpPr>
          <p:cNvPr id="295" name="TextBox 2"/>
          <p:cNvSpPr/>
          <p:nvPr/>
        </p:nvSpPr>
        <p:spPr>
          <a:xfrm>
            <a:off x="1219320" y="6176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Buck Institute Websi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ossible Projec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glis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a surve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a repor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a newspaper artic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ze results of surve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charts and tab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vel char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estigate impact of Doha Metro on global warm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estigate MagLev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locit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لغة الإنجليز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61720" algn="r" rtl="1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صميم المسح العا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61720" algn="r" rtl="1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كتابة تقري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61720" algn="r" rtl="1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كتابة مقالة في صحيف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رياضي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61720" algn="r" rtl="1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حليل نتائج المسح العام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61720" algn="r" rtl="1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إنشاء الرسوم البيانية والجداول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61720" algn="r" rtl="1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خططات السف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لو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61720" algn="r" rtl="1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حقيق في تأثير مترو الدوحة بشأن الاحتباس الحراري العالم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61720" algn="r" rtl="1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حقيق في ماجلي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61720" algn="r" rtl="1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رع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6D44-1D17-4B14-BE52-5B5A6278FE6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Title 1" descr=""/>
          <p:cNvPicPr/>
          <p:nvPr/>
        </p:nvPicPr>
        <p:blipFill>
          <a:blip r:embed="rId1"/>
          <a:stretch/>
        </p:blipFill>
        <p:spPr>
          <a:xfrm>
            <a:off x="457200" y="871560"/>
            <a:ext cx="830880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More possible project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t: LOTS of design possibilit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or scheme for metro wag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 for Doha Met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wareness pos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twork for walls of sta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ro ma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lamic Stud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ings to reflect Islamic princi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Studi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ن : الكثيرمن التصاميم الممكن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خطط الالوان لعربات المترو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عار لمترو الدوحة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علانات للدعاية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عمال الفنية لجدران المحط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ريطة مترو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راسات الاسلام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باني التي تعكس المبادئ الإسلامية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لوم الإجتماع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وسائل المواصل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D01E-A762-4E7B-8837-2ACFCA0EF3A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Title 1"/>
          <p:cNvSpPr/>
          <p:nvPr/>
        </p:nvSpPr>
        <p:spPr>
          <a:xfrm>
            <a:off x="457200" y="11430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45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ar-QA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مشاريع اخرى محتملة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Guest Speaker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20600"/>
            <a:ext cx="4038480" cy="19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ite a guest speak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schools will have a student who has a parent who is involved with the Doha Metro proje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تزكي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دعوة ضيف شرف متحدث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سوف يكون  في جميع المدارس طلاب من الذين اباءهم يشاركون في مشروع مترو الدوح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3162-D5B7-41F8-9FA0-DD4AC2518F0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457200" y="1047600"/>
            <a:ext cx="82296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ضيف المتحدث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2" descr="http://www.guest-speakers-mc.co.za/images/guest_speaker_motivational_mc_keynote.jpg"/>
          <p:cNvPicPr/>
          <p:nvPr/>
        </p:nvPicPr>
        <p:blipFill>
          <a:blip r:embed="rId1"/>
          <a:stretch/>
        </p:blipFill>
        <p:spPr>
          <a:xfrm>
            <a:off x="2514600" y="3675240"/>
            <a:ext cx="20574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590040"/>
            <a:ext cx="822960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roject Wiki for online resourc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tp://learningtoexcel.wikispaces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A350-A150-4A94-A7DB-65945CAD09E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Title 1"/>
          <p:cNvSpPr/>
          <p:nvPr/>
        </p:nvSpPr>
        <p:spPr>
          <a:xfrm>
            <a:off x="419040" y="1219320"/>
            <a:ext cx="82296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مشروع ويكي للموارد على الانترنت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4" descr=""/>
          <p:cNvPicPr/>
          <p:nvPr/>
        </p:nvPicPr>
        <p:blipFill>
          <a:blip r:embed="rId1"/>
          <a:stretch/>
        </p:blipFill>
        <p:spPr>
          <a:xfrm>
            <a:off x="536400" y="3127320"/>
            <a:ext cx="8296560" cy="1584360"/>
          </a:xfrm>
          <a:prstGeom prst="rect">
            <a:avLst/>
          </a:prstGeom>
          <a:ln w="0">
            <a:noFill/>
          </a:ln>
        </p:spPr>
      </p:pic>
      <p:sp>
        <p:nvSpPr>
          <p:cNvPr id="31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AEE4-E24A-4AFB-9441-79C322E1D29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Title 4" descr=""/>
          <p:cNvPicPr/>
          <p:nvPr/>
        </p:nvPicPr>
        <p:blipFill>
          <a:blip r:embed="rId2"/>
          <a:stretch/>
        </p:blipFill>
        <p:spPr>
          <a:xfrm>
            <a:off x="689040" y="1725480"/>
            <a:ext cx="8302680" cy="1584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8"/>
          <p:cNvSpPr/>
          <p:nvPr/>
        </p:nvSpPr>
        <p:spPr>
          <a:xfrm>
            <a:off x="1752480" y="472428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avid and Am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4488120" y="513396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ffffff"/>
                </a:solidFill>
                <a:latin typeface="Constantia"/>
                <a:cs typeface="Majalla UI"/>
              </a:rPr>
              <a:t>أمل و ديفيد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hy use Project-Based Learning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  <a:ea typeface="Arial"/>
              </a:rPr>
              <a:t>Broader and richer learning perspectiv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  <a:ea typeface="Arial"/>
              </a:rPr>
              <a:t>Meets demands of the 21</a:t>
            </a:r>
            <a:r>
              <a:rPr b="0" lang="en-IE" sz="2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st</a:t>
            </a:r>
            <a:r>
              <a:rPr b="0" lang="en-IE" sz="2200" spc="-1" strike="noStrike">
                <a:solidFill>
                  <a:srgbClr val="000000"/>
                </a:solidFill>
                <a:latin typeface="Calibri"/>
                <a:ea typeface="Arial"/>
              </a:rPr>
              <a:t> centur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  <a:ea typeface="Arial"/>
              </a:rPr>
              <a:t>Makes meaningful connect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  <a:ea typeface="Arial"/>
              </a:rPr>
              <a:t>Allows for a variety of approaches and methodologie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  <a:ea typeface="Arial"/>
              </a:rPr>
              <a:t>Caters for different learning styles and interests  of studen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  <a:ea typeface="Arial"/>
              </a:rPr>
              <a:t>Encourages the sharing of ideas and good practic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  <a:ea typeface="Arial"/>
              </a:rPr>
              <a:t>Required by National Professional Standards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نظور التعلم يصبح أوسع نطاقا وأكثر ثراء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r" rtl="1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طابق متطلبات التعلم في القرن </a:t>
            </a:r>
            <a:r>
              <a:rPr b="0" lang="ar-Q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r" rtl="1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جعل التواصل ذو مغزى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r" rtl="1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سمح للتنوع في النهج والمنهجيات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r" rtl="1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r" rtl="1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رعى مختلف أنماط التعلم واهتمامات الطلاب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r" rtl="1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شجع تبادل الأفكار والممارسات الجيد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r" rtl="1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ي تتطلبها المعايير المهنية الوطن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r" rtl="1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r" rtl="1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r" rtl="1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r" rtl="1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380880" y="11430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لماذا نستخدم التعليم القائم على المشاريع؟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8D32-77C4-4B53-997B-6BD06175097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360" y="6969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hallenges of Project-Based Learnin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Prepa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Selection of  good digital re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Can be haphazard – easy to go off tas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Difficult to assess / evalu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8320" y="1920960"/>
            <a:ext cx="4038480" cy="33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حضير والاعداد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اختيار جيد للموارد الرقمي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يمكن أن تكون عشوائية – اسهل أن  تخرج عن الموضوع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من الصعب التقدير/ والتقييم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C:\Documents and Settings\USER\Local Settings\Temporary Internet Files\Content.IE5\JRYMZICL\MC900438012[1].wmf"/>
          <p:cNvPicPr/>
          <p:nvPr/>
        </p:nvPicPr>
        <p:blipFill>
          <a:blip r:embed="rId1"/>
          <a:stretch/>
        </p:blipFill>
        <p:spPr>
          <a:xfrm>
            <a:off x="7405560" y="5257800"/>
            <a:ext cx="1554120" cy="1495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Documents and Settings\USER\Local Settings\Temporary Internet Files\Content.IE5\2PMXS27G\MC900442038[1].wmf"/>
          <p:cNvPicPr/>
          <p:nvPr/>
        </p:nvPicPr>
        <p:blipFill>
          <a:blip r:embed="rId2"/>
          <a:stretch/>
        </p:blipFill>
        <p:spPr>
          <a:xfrm>
            <a:off x="228600" y="5294160"/>
            <a:ext cx="1247760" cy="1554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C:\Documents and Settings\USER\Local Settings\Temporary Internet Files\Content.IE5\1S94NCNX\MC900440412[1].wmf"/>
          <p:cNvPicPr/>
          <p:nvPr/>
        </p:nvPicPr>
        <p:blipFill>
          <a:blip r:embed="rId3"/>
          <a:stretch/>
        </p:blipFill>
        <p:spPr>
          <a:xfrm>
            <a:off x="2360520" y="5403960"/>
            <a:ext cx="1830600" cy="1485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C:\Documents and Settings\USER\Local Settings\Temporary Internet Files\Content.IE5\7BB4WZCY\MC900434393[1].wmf"/>
          <p:cNvPicPr/>
          <p:nvPr/>
        </p:nvPicPr>
        <p:blipFill>
          <a:blip r:embed="rId4"/>
          <a:stretch/>
        </p:blipFill>
        <p:spPr>
          <a:xfrm>
            <a:off x="4873680" y="5530680"/>
            <a:ext cx="1832040" cy="1251000"/>
          </a:xfrm>
          <a:prstGeom prst="rect">
            <a:avLst/>
          </a:prstGeom>
          <a:ln w="0">
            <a:noFill/>
          </a:ln>
        </p:spPr>
      </p:pic>
      <p:sp>
        <p:nvSpPr>
          <p:cNvPr id="220" name="Title 1"/>
          <p:cNvSpPr/>
          <p:nvPr/>
        </p:nvSpPr>
        <p:spPr>
          <a:xfrm>
            <a:off x="228600" y="1238400"/>
            <a:ext cx="87631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228600" y="1238400"/>
            <a:ext cx="87631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تحديات التعلم القائم على المشروع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887E-BC56-4FE6-8131-838ACFF6DAB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3" descr=""/>
          <p:cNvPicPr/>
          <p:nvPr/>
        </p:nvPicPr>
        <p:blipFill>
          <a:blip r:embed="rId1"/>
          <a:stretch/>
        </p:blipFill>
        <p:spPr>
          <a:xfrm>
            <a:off x="115920" y="438120"/>
            <a:ext cx="8650080" cy="1201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Documents and Settings\Ciara\Desktop\IMG_4485.JPG"/>
          <p:cNvPicPr/>
          <p:nvPr/>
        </p:nvPicPr>
        <p:blipFill>
          <a:blip r:embed="rId2"/>
          <a:stretch/>
        </p:blipFill>
        <p:spPr>
          <a:xfrm>
            <a:off x="3581280" y="240984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5"/>
          <p:cNvSpPr/>
          <p:nvPr/>
        </p:nvSpPr>
        <p:spPr>
          <a:xfrm>
            <a:off x="1371600" y="49528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ferenc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oregonstate.edu/instruction/ed555/zone3/tenways.ht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uck Institute of Education [FANTASTIC: hundreds of resources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Title 3" descr=""/>
          <p:cNvPicPr/>
          <p:nvPr/>
        </p:nvPicPr>
        <p:blipFill>
          <a:blip r:embed="rId3"/>
          <a:stretch/>
        </p:blipFill>
        <p:spPr>
          <a:xfrm>
            <a:off x="609480" y="1176480"/>
            <a:ext cx="8309160" cy="1090440"/>
          </a:xfrm>
          <a:prstGeom prst="rect">
            <a:avLst/>
          </a:prstGeom>
          <a:ln w="0">
            <a:noFill/>
          </a:ln>
        </p:spPr>
      </p:pic>
      <p:sp>
        <p:nvSpPr>
          <p:cNvPr id="227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828B-7F77-4D91-83DA-B5B06E9A092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115920" y="407880"/>
            <a:ext cx="6894360" cy="1201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Fragmented"/>
          <p:cNvPicPr/>
          <p:nvPr/>
        </p:nvPicPr>
        <p:blipFill>
          <a:blip r:embed="rId2"/>
          <a:stretch/>
        </p:blipFill>
        <p:spPr>
          <a:xfrm>
            <a:off x="7591320" y="48096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30" name="Line 4"/>
          <p:cNvSpPr/>
          <p:nvPr/>
        </p:nvSpPr>
        <p:spPr>
          <a:xfrm flipH="1">
            <a:off x="4198680" y="2606760"/>
            <a:ext cx="68040" cy="379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Line 5"/>
          <p:cNvSpPr/>
          <p:nvPr/>
        </p:nvSpPr>
        <p:spPr>
          <a:xfrm>
            <a:off x="1785960" y="4191120"/>
            <a:ext cx="489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3"/>
          <a:stretch/>
        </p:blipFill>
        <p:spPr>
          <a:xfrm>
            <a:off x="4870440" y="4327560"/>
            <a:ext cx="1689120" cy="4048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4"/>
          <a:stretch/>
        </p:blipFill>
        <p:spPr>
          <a:xfrm>
            <a:off x="4687920" y="2036880"/>
            <a:ext cx="1554120" cy="4046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5"/>
          <a:stretch/>
        </p:blipFill>
        <p:spPr>
          <a:xfrm>
            <a:off x="2041560" y="4316400"/>
            <a:ext cx="1560600" cy="4199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6"/>
          <a:stretch/>
        </p:blipFill>
        <p:spPr>
          <a:xfrm>
            <a:off x="2041560" y="1878120"/>
            <a:ext cx="1560600" cy="4059000"/>
          </a:xfrm>
          <a:prstGeom prst="rect">
            <a:avLst/>
          </a:prstGeom>
          <a:ln w="0">
            <a:noFill/>
          </a:ln>
        </p:spPr>
      </p:pic>
      <p:pic>
        <p:nvPicPr>
          <p:cNvPr id="236" name="Title 1" descr=""/>
          <p:cNvPicPr/>
          <p:nvPr/>
        </p:nvPicPr>
        <p:blipFill>
          <a:blip r:embed="rId7"/>
          <a:stretch/>
        </p:blipFill>
        <p:spPr>
          <a:xfrm>
            <a:off x="536400" y="1066680"/>
            <a:ext cx="6553440" cy="1090800"/>
          </a:xfrm>
          <a:prstGeom prst="rect">
            <a:avLst/>
          </a:prstGeom>
          <a:ln w="0">
            <a:noFill/>
          </a:ln>
        </p:spPr>
      </p:pic>
      <p:sp>
        <p:nvSpPr>
          <p:cNvPr id="237" name="Slide Number Placeholder 10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690A-A688-43E9-90B4-8652F0DEAF7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0" y="426960"/>
            <a:ext cx="7547040" cy="1073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onnected"/>
          <p:cNvPicPr/>
          <p:nvPr/>
        </p:nvPicPr>
        <p:blipFill>
          <a:blip r:embed="rId2"/>
          <a:stretch/>
        </p:blipFill>
        <p:spPr>
          <a:xfrm>
            <a:off x="7772400" y="54468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9"/>
          <p:cNvSpPr/>
          <p:nvPr/>
        </p:nvSpPr>
        <p:spPr>
          <a:xfrm>
            <a:off x="453960" y="1992240"/>
            <a:ext cx="15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al Languag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Box 10"/>
          <p:cNvSpPr/>
          <p:nvPr/>
        </p:nvSpPr>
        <p:spPr>
          <a:xfrm>
            <a:off x="3197160" y="3733920"/>
            <a:ext cx="16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TextBox 16"/>
          <p:cNvSpPr/>
          <p:nvPr/>
        </p:nvSpPr>
        <p:spPr>
          <a:xfrm>
            <a:off x="5877000" y="48769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4" descr="Description: http://www.aldermansmith.warwickshire.sch.uk/images/Emoticon.jpg"/>
          <p:cNvPicPr/>
          <p:nvPr/>
        </p:nvPicPr>
        <p:blipFill>
          <a:blip r:embed="rId3"/>
          <a:stretch/>
        </p:blipFill>
        <p:spPr>
          <a:xfrm>
            <a:off x="1600200" y="2306520"/>
            <a:ext cx="1521000" cy="1328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Description: C:\Documents and Settings\USER\Local Settings\Temporary Internet Files\Content.IE5\O52K93MP\MC900437990[1].wmf"/>
          <p:cNvPicPr/>
          <p:nvPr/>
        </p:nvPicPr>
        <p:blipFill>
          <a:blip r:embed="rId4"/>
          <a:stretch/>
        </p:blipFill>
        <p:spPr>
          <a:xfrm>
            <a:off x="4419720" y="3633840"/>
            <a:ext cx="1438200" cy="1371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Description: C:\Documents and Settings\USER\Local Settings\Temporary Internet Files\Content.IE5\2PMXS27G\MC900440428[1].wmf"/>
          <p:cNvPicPr/>
          <p:nvPr/>
        </p:nvPicPr>
        <p:blipFill>
          <a:blip r:embed="rId5"/>
          <a:stretch/>
        </p:blipFill>
        <p:spPr>
          <a:xfrm>
            <a:off x="6934320" y="5246640"/>
            <a:ext cx="1299960" cy="1371600"/>
          </a:xfrm>
          <a:prstGeom prst="rect">
            <a:avLst/>
          </a:prstGeom>
          <a:ln w="0">
            <a:noFill/>
          </a:ln>
        </p:spPr>
      </p:pic>
      <p:sp>
        <p:nvSpPr>
          <p:cNvPr id="24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45D6-7BFD-48C8-B285-511E04C5E70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TextBox 11"/>
          <p:cNvSpPr/>
          <p:nvPr/>
        </p:nvSpPr>
        <p:spPr>
          <a:xfrm>
            <a:off x="533520" y="2373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TextBox 12"/>
          <p:cNvSpPr/>
          <p:nvPr/>
        </p:nvSpPr>
        <p:spPr>
          <a:xfrm>
            <a:off x="3276720" y="404964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TextBox 13"/>
          <p:cNvSpPr/>
          <p:nvPr/>
        </p:nvSpPr>
        <p:spPr>
          <a:xfrm>
            <a:off x="5943600" y="526896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Title 1" descr=""/>
          <p:cNvPicPr/>
          <p:nvPr/>
        </p:nvPicPr>
        <p:blipFill>
          <a:blip r:embed="rId6"/>
          <a:stretch/>
        </p:blipFill>
        <p:spPr>
          <a:xfrm>
            <a:off x="304920" y="1189080"/>
            <a:ext cx="724212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457200" y="596880"/>
            <a:ext cx="6480000" cy="1701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Nested"/>
          <p:cNvPicPr/>
          <p:nvPr/>
        </p:nvPicPr>
        <p:blipFill>
          <a:blip r:embed="rId2"/>
          <a:stretch/>
        </p:blipFill>
        <p:spPr>
          <a:xfrm>
            <a:off x="7559640" y="698400"/>
            <a:ext cx="1193760" cy="1193760"/>
          </a:xfrm>
          <a:prstGeom prst="rect">
            <a:avLst/>
          </a:prstGeom>
          <a:ln w="0">
            <a:noFill/>
          </a:ln>
        </p:spPr>
      </p:pic>
      <p:pic>
        <p:nvPicPr>
          <p:cNvPr id="253" name="Diagram 6" descr=""/>
          <p:cNvPicPr/>
          <p:nvPr/>
        </p:nvPicPr>
        <p:blipFill>
          <a:blip r:embed="rId3"/>
          <a:stretch/>
        </p:blipFill>
        <p:spPr>
          <a:xfrm>
            <a:off x="1523880" y="2577960"/>
            <a:ext cx="6096240" cy="40910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9"/>
          <p:cNvSpPr/>
          <p:nvPr/>
        </p:nvSpPr>
        <p:spPr>
          <a:xfrm>
            <a:off x="7153200" y="4610160"/>
            <a:ext cx="16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55" name="Straight Arrow Connector 12"/>
          <p:cNvCxnSpPr/>
          <p:nvPr/>
        </p:nvCxnSpPr>
        <p:spPr>
          <a:xfrm>
            <a:off x="2620800" y="5235120"/>
            <a:ext cx="1524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6" name="Straight Arrow Connector 14"/>
          <p:cNvCxnSpPr/>
          <p:nvPr/>
        </p:nvCxnSpPr>
        <p:spPr>
          <a:xfrm flipV="1">
            <a:off x="4571640" y="4266360"/>
            <a:ext cx="108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" name="Straight Arrow Connector 16"/>
          <p:cNvCxnSpPr/>
          <p:nvPr/>
        </p:nvCxnSpPr>
        <p:spPr>
          <a:xfrm flipV="1">
            <a:off x="4571640" y="3200040"/>
            <a:ext cx="108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8" name="Slide Number Placeholder 3"/>
          <p:cNvSpPr/>
          <p:nvPr/>
        </p:nvSpPr>
        <p:spPr>
          <a:xfrm>
            <a:off x="795492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0162-53C1-415D-AA0C-A8DD202B646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TextBox 13"/>
          <p:cNvSpPr/>
          <p:nvPr/>
        </p:nvSpPr>
        <p:spPr>
          <a:xfrm>
            <a:off x="838080" y="4572000"/>
            <a:ext cx="16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atur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so 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itle 1" descr=""/>
          <p:cNvPicPr/>
          <p:nvPr/>
        </p:nvPicPr>
        <p:blipFill>
          <a:blip r:embed="rId1"/>
          <a:stretch/>
        </p:blipFill>
        <p:spPr>
          <a:xfrm>
            <a:off x="36360" y="152280"/>
            <a:ext cx="6443640" cy="1200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sequenced"/>
          <p:cNvPicPr/>
          <p:nvPr/>
        </p:nvPicPr>
        <p:blipFill>
          <a:blip r:embed="rId2"/>
          <a:stretch/>
        </p:blipFill>
        <p:spPr>
          <a:xfrm>
            <a:off x="7238880" y="838080"/>
            <a:ext cx="1193760" cy="1193760"/>
          </a:xfrm>
          <a:prstGeom prst="rect">
            <a:avLst/>
          </a:prstGeom>
          <a:ln w="0">
            <a:noFill/>
          </a:ln>
        </p:spPr>
      </p:pic>
      <p:sp>
        <p:nvSpPr>
          <p:cNvPr id="262" name="Oval 4"/>
          <p:cNvSpPr/>
          <p:nvPr/>
        </p:nvSpPr>
        <p:spPr>
          <a:xfrm>
            <a:off x="1066680" y="2789280"/>
            <a:ext cx="2819520" cy="2590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Jungle Boo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1981080" y="2209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glis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Oval 6"/>
          <p:cNvSpPr/>
          <p:nvPr/>
        </p:nvSpPr>
        <p:spPr>
          <a:xfrm>
            <a:off x="5715000" y="2833560"/>
            <a:ext cx="2819520" cy="2590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cosystem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2" descr="http://www.filmedge.net/JB/boxart.png"/>
          <p:cNvPicPr/>
          <p:nvPr/>
        </p:nvPicPr>
        <p:blipFill>
          <a:blip r:embed="rId3"/>
          <a:stretch/>
        </p:blipFill>
        <p:spPr>
          <a:xfrm rot="20388600">
            <a:off x="368280" y="4175280"/>
            <a:ext cx="1859040" cy="24699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8"/>
          <p:cNvSpPr/>
          <p:nvPr/>
        </p:nvSpPr>
        <p:spPr>
          <a:xfrm>
            <a:off x="6010200" y="2238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ograph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4" descr="http://www.solarnavigator.net/animal_kingdom/animal_images/Tiger_panthera_tigris_tigris_Bengal.jpg"/>
          <p:cNvPicPr/>
          <p:nvPr/>
        </p:nvPicPr>
        <p:blipFill>
          <a:blip r:embed="rId4"/>
          <a:stretch/>
        </p:blipFill>
        <p:spPr>
          <a:xfrm rot="868200">
            <a:off x="6629040" y="4676400"/>
            <a:ext cx="2286000" cy="1755720"/>
          </a:xfrm>
          <a:prstGeom prst="rect">
            <a:avLst/>
          </a:prstGeom>
          <a:ln w="0">
            <a:noFill/>
          </a:ln>
        </p:spPr>
      </p:pic>
      <p:sp>
        <p:nvSpPr>
          <p:cNvPr id="268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C413-6501-44DE-A1EB-6B02DA775C5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Title 1" descr=""/>
          <p:cNvPicPr/>
          <p:nvPr/>
        </p:nvPicPr>
        <p:blipFill>
          <a:blip r:embed="rId5"/>
          <a:stretch/>
        </p:blipFill>
        <p:spPr>
          <a:xfrm>
            <a:off x="384120" y="1006560"/>
            <a:ext cx="6437520" cy="1206360"/>
          </a:xfrm>
          <a:prstGeom prst="rect">
            <a:avLst/>
          </a:prstGeom>
          <a:ln w="0">
            <a:noFill/>
          </a:ln>
        </p:spPr>
      </p:pic>
      <p:cxnSp>
        <p:nvCxnSpPr>
          <p:cNvPr id="270" name="Straight Arrow Connector 9"/>
          <p:cNvCxnSpPr/>
          <p:nvPr/>
        </p:nvCxnSpPr>
        <p:spPr>
          <a:xfrm>
            <a:off x="4114800" y="3930120"/>
            <a:ext cx="1448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1" descr=""/>
          <p:cNvPicPr/>
          <p:nvPr/>
        </p:nvPicPr>
        <p:blipFill>
          <a:blip r:embed="rId1"/>
          <a:stretch/>
        </p:blipFill>
        <p:spPr>
          <a:xfrm>
            <a:off x="115920" y="152280"/>
            <a:ext cx="5145120" cy="1200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Shared"/>
          <p:cNvPicPr/>
          <p:nvPr/>
        </p:nvPicPr>
        <p:blipFill>
          <a:blip r:embed="rId2"/>
          <a:stretch/>
        </p:blipFill>
        <p:spPr>
          <a:xfrm>
            <a:off x="7315200" y="838080"/>
            <a:ext cx="1193760" cy="1193760"/>
          </a:xfrm>
          <a:prstGeom prst="rect">
            <a:avLst/>
          </a:prstGeom>
          <a:ln w="0">
            <a:noFill/>
          </a:ln>
        </p:spPr>
      </p:pic>
      <p:pic>
        <p:nvPicPr>
          <p:cNvPr id="273" name="Diagram 3" descr=""/>
          <p:cNvPicPr/>
          <p:nvPr/>
        </p:nvPicPr>
        <p:blipFill>
          <a:blip r:embed="rId3"/>
          <a:stretch/>
        </p:blipFill>
        <p:spPr>
          <a:xfrm>
            <a:off x="1523880" y="1395360"/>
            <a:ext cx="6096240" cy="407844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3581280" y="59436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represent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75" name="Straight Arrow Connector 6"/>
          <p:cNvCxnSpPr/>
          <p:nvPr/>
        </p:nvCxnSpPr>
        <p:spPr>
          <a:xfrm flipV="1">
            <a:off x="4495680" y="3962160"/>
            <a:ext cx="76680" cy="1829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1B7B-7C86-4C88-BFAA-70D17545A5B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7" name="Title 1" descr=""/>
          <p:cNvPicPr/>
          <p:nvPr/>
        </p:nvPicPr>
        <p:blipFill>
          <a:blip r:embed="rId4"/>
          <a:stretch/>
        </p:blipFill>
        <p:spPr>
          <a:xfrm>
            <a:off x="304920" y="944640"/>
            <a:ext cx="51022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08:19:08Z</dcterms:created>
  <dc:creator>David</dc:creator>
  <dc:description/>
  <dc:language>en-US</dc:language>
  <cp:lastModifiedBy>Vista</cp:lastModifiedBy>
  <cp:lastPrinted>2010-10-11T05:12:36Z</cp:lastPrinted>
  <dcterms:modified xsi:type="dcterms:W3CDTF">2010-10-18T11:29:58Z</dcterms:modified>
  <cp:revision>71</cp:revision>
  <dc:subject/>
  <dc:title>Using Local Resources for Project-Based Learning</dc:title>
</cp:coreProperties>
</file>